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3E3E-43D8-4740-A37F-9685FE957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FEB0-D90E-4B97-AA94-022DB78A7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EC56-0016-494D-80EC-17653EC81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537B-CC4A-4B21-B7E6-8DC29ACF0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21AD9-86B6-44CF-AFEA-0A602A79C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FB74E-C92F-4710-9F0F-1DB09E580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EE048-6592-45AC-BC80-52DC1B3D2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473FD-62C2-4605-89DB-741AA5197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9088C-4FD6-4C84-A44E-96E77BF61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3BEB8-AB48-4F88-89DD-BA46A26AB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B3DC8-4FB3-4334-8C33-93D63920A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718B-FBDF-415E-85CC-341753A7B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266FB-FAFC-4430-9971-40EAE453A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36D34-8ACA-42A2-81F3-20BA304AB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F8DFF-7236-409E-AC58-53638D465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27B2B-D3FD-4E6B-B7C3-230125B88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11D95-6CC9-4559-A02E-2441D9F7E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94D2-1D4A-4355-9FF1-FBF459D83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3B91-3A17-432A-BA72-4667D1A6D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E993-F1CE-419E-9B57-461AD0C76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3792-2C67-459C-B44F-3BE000AE5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2552-10EC-4050-971C-40ABADA08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6910-CC4A-4C1F-B2AF-7AFFD6D20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F228-2523-4DD6-8147-B92AF4DA6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74D04-997C-448C-8C3A-9EEDEBAF21F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67416-03A0-46DD-81EC-C7E1E032EC5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hapter 27: The Path of Empire 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890-189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tart of War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mericans went to war enthusiasticall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my numbered only 2100 officers and 28,000 me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00,000 Spanish troops in Cub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anish navy in wretched condi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ousands of miles from hom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Victory at Manil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odore Roosevelt (assistant navy secretary) ordered Commodore George Dewey to descend upon Spain’s Philippines in event of wa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y 1, 1898- Dewey attacks &amp; destroys 10 ship Spanish fleet at Manil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ttle of Manila Bay”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6477120" y="4457880"/>
            <a:ext cx="255564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Unexpected Imperialistic Effec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eign warships gathered in Manila harb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 captured Manila in August 189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cused attention on Hawai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eded archipelago to send supplies &amp; reinforcements to Dewe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gress passed joint-resolution to annex Hawaii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proved  by McKinley, July 189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idents of Hawaii granted US citizenshi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onfused Invasion of Cuba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anish government sent fleet of warships to Cuba after outbreak of w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lockaded by more powerful American fle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General William Shafte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led American forces sent to drive out the Spanish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ll-prepared for war in the tropics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6781680" y="3809880"/>
            <a:ext cx="1905120" cy="29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ough Ride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541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giment of volunte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sisted largely of western cowboys (&amp; ex-polo players, ex-convict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manded by Colonel Leonard Woo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rganized principally by Theodore Roosevelt, lieutenant colone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ught in El Caney &amp; San Juan Hil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2895480" y="4141800"/>
            <a:ext cx="335304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urtains for Spain in Americ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ain’s fleet is defeated in Santiago, Santiago surrende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neral Nelson Miles began descent upon Puerto R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t w/ little resist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w Americans as liberating hero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ral men lost lives to sickness (typhoid fever) during wa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cKinley: Duty, Destiny &amp; Dolla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anish &amp; American negotiators met in Paris to begin peace discuss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mericans secured Guam &amp; Puerto R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hilippines presented McKinley w/ a probl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guments for and against annexatio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merica agrees to pay Spain $20 million for The Philippin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1981080" y="1143000"/>
            <a:ext cx="49532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“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urse” of Empire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Anti-Imperialistic League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sprang into being to fight McKinley’s imperialistic motiv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lliam Jennings Bry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tified treaty in order to give Filipinos their independenc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>
            <a:off x="4191120" y="3886200"/>
            <a:ext cx="258588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Perplexities in Puerto Rico &amp; Cuba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Foraker Act of 1900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ongress granted Puerto Ricans a limited degree of popular governmen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17- grants them US citizenship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sular Ca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latt Amendment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replaces Teller Amendment, ensured US involvement in Cuban affai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 could intervene w/ troop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mperialist String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verend Josiah Strong-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Our Country: Its Possible Future and Its Present Crisi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pired missionaries to travel to foreign nation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cial Darwinism- earth belongs to strong &amp; f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fred Thayer Mahan-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The Influence of Sea Power upon Histor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trol of the sea is key to world domin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80280" y="5715000"/>
            <a:ext cx="9637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New Horizons in Two Hemisphere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anish-American war lasted only 113 day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 prestige as a world power increas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lendid little war”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 became full-fledged Far Eastern pow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2438280" y="3909960"/>
            <a:ext cx="4191120" cy="29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onroe’s Doctrine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ld discovered in contes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ea between Venezuel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amp; British Guian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 declared that Britis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re violating Monro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ctr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ritain rejected relev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f Monroe Doctr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 willing to go to wa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ritain chose not to fight w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5715000" y="1676520"/>
            <a:ext cx="318600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ffects of Venezuelan Conflic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stige of the Monroe Doctrine was enhanc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tin American countries pleased by determination of US to protect them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eat Rapprochement”- reconciliation between the United States &amp; Brit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came a cornerstone of foreign policies for both nation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awaii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820- first missionaries in Hawaii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fits of sugar cultivation became less profitable under McKinley Tariff of 189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 wanted to annex Hawaii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ueen Liliuokalani insisted against annexat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verthrown in 1893 by whit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volutionis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eveland withdrew treaty to annex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waii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6934320" y="4038480"/>
            <a:ext cx="200016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ubans Rise in Revolt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ban sugar profit became less profitable w/ Tariff of 189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bans revolted against Spanish in 189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merican sympathies went to Cub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 had investment &amp; annual trade stake in Cub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bans sent to reconcentration camps where they were treated poor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896- Congress passes resolution that recognized belligerence of revolted Cuba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eveland refused to budg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ahoma"/>
              </a:rPr>
              <a:t>Maine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Explosion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Yellow Journalis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sents little or no well-researched news, uses eye-catching headlines to sell more newspap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used Americans to think conditions in Cuba were worse than they actually wer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merican ship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Main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blew up in Havana port (Feb. 1898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merican journalists claimed Spain had sunk 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r w/ Spain was imminen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1523880" y="1066680"/>
            <a:ext cx="579132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ar Begin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drid had agreed to US 2 demands: end of reconcentration camps &amp; armistice w/ Cuban rebe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cKinley did not want war, but American people di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ril 1898- McKinley sends war message to Congr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Teller Amendment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proclaimed that when the U.S. had overthrown Spanish misrule, it would give Cubans their freedom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8T20:58:14Z</dcterms:created>
  <dc:creator>emily.johnson</dc:creator>
  <dc:description/>
  <dc:language>en-US</dc:language>
  <cp:lastModifiedBy>emily.johnson</cp:lastModifiedBy>
  <dcterms:modified xsi:type="dcterms:W3CDTF">2013-01-30T19:07:48Z</dcterms:modified>
  <cp:revision>8</cp:revision>
  <dc:subject/>
  <dc:title>Chapter 27: The Path of Empire </dc:title>
</cp:coreProperties>
</file>